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49C3-941A-45C9-9F75-F1635A5E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0DC3-5574-4D24-8D2F-94989BB9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268F7-DC43-4AD5-BC2C-3CD18A7D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8D0DC-DD93-4D0C-B7F5-F5F627C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C0F21-58A6-44DF-8D9A-B21F5237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54C13-096A-42B8-A1E1-70F30DF5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865D3-80C5-45CD-B53B-225A00CD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BBA62-8F6B-4642-9A7D-CEB9775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D54E6-186F-4B81-AF25-0653E96C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11194-D51D-4909-86CD-9A3431ED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93552-DE04-4CF3-A5C6-0EE62905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B6601-8EA9-4C15-AC1C-C99F4344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9CAB-ABEB-4E4B-AA8E-F4FA9D06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E9537-44E8-4C29-92FA-4A5F9A8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C7D3F-8285-40C1-B10F-984294FC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FE1E6-D60D-41F5-AA6F-A508325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80E71-181B-4C20-B0AC-DED456E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F97B4-53D3-4056-8DBE-2D79AAC6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7ED8C-5C3C-4988-85AA-29DBBA0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4B8B8-FDB5-4EF3-B861-169EBE17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0F316-A74F-4D69-B4D6-FE75C26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92AA6-598F-471D-B613-8C75FEE5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44A51-0F8F-49DC-9C5B-84D3802D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8EEF-4537-414A-B15D-CB4DEA0B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FB860-30E7-4474-A16D-5A0CF773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15CF8-0A12-496C-9B76-DAE8478A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1BC2-8699-4A12-83E5-9BE75CB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27EC0-C6F3-4860-B052-16D95487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216D2-77BA-44BA-A062-E01BEA46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A956C-7D13-4BC9-A658-2073EA9B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A6187-1B73-46A1-9EFD-F684116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4E7CC-4EC3-4256-AD58-27846A4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1A483-0BE9-4A58-9E28-4640A2D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C7976-9A14-4F13-89FC-4E75FC8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ACF3-C7D5-4598-9C29-CAAA1E6E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0B762-9AF7-4A15-AA07-58B06A1D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C45FB-89AD-4B7E-A16F-53E1CBE0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838FC-AE28-44B6-9ADE-01EE759C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B45B4-FC65-4FCA-8E30-8B87EE25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F16B9-1BEF-4E5F-A145-974B7EB1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BBF1D-61D9-4C1F-A762-858C7539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00245-D3F4-4CE1-A3DB-0068C8A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CDA9C-8ABB-4328-B9AA-4E3A1659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41E62-1412-4AB2-A9BD-12DB09EB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1B779-2BB8-4BDA-9F6E-C8AE0E13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0B96-EC0B-4965-AF91-6DA429E8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1DB4D-8909-4616-BC06-0625842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59B58-6C91-47AD-9D2D-36201F30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FA4D3-3AF7-4345-B737-D9F492BC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DDD9B-CB64-4D77-B04C-0E1DCDC6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EE5E2-99DF-4438-856E-091FB2DB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B37B14-DE9E-4DCE-81BE-D1624CB2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4D414-FAC0-4F23-B43A-A971CF9F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DA1C60-69C1-4F0A-A37D-5324A32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E10D44-D422-40A6-9721-9B522EA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3A911C-61C3-464B-B38F-EEE2A135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F835-DC59-4173-9365-B7108220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A44D5B-67A8-4CF4-9396-7BA5613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F1AA66-E047-4D1C-9A7B-F076CBD4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C84421-B713-45D0-B462-FACF234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B17E72-B0F8-4C74-9214-B3BED2E0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ABAF5E-998D-427F-8A8D-470871F2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59C994-CA7F-4018-8041-4C63CEC0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258E4B-1023-40BB-8889-128AE123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1D817-345F-4C45-B274-4CC04ED6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FE03F-1BA7-4907-8E50-6F42EF8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F4BDB-C1CB-4693-8D8F-69102549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EF76-F5BF-40CC-BC8B-421C5000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FD3DD-A477-4EA5-A342-C7499858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ADDD6-5CA8-42B5-B52C-4FCE754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F5A57-36A2-4773-8484-8DE46FAB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895A6-C4AF-4D72-842D-1448ECD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D9D8B-047C-4704-B3BF-2455D4C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A184B-523A-4B98-8E96-23A5AB9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4CB50-1678-4345-A370-FCE22B7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12B70-DD17-4099-9B31-A930521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DFF65-F58E-4205-8E1E-18099FD7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0EE776-46CE-4CC7-846B-2F750CA7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FE93-C4CD-458E-AD0B-DA53EC3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94F995-A97A-4F6A-85FE-10714D1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C06A55-C184-4F49-8396-2EA60268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35DF27-52C2-4FBF-A18B-DFF4A55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3F85A9-1894-451F-B988-DF8BBE54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0BAC95-67A3-4C27-9D89-9718AA19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C112E5-2BE9-4ED5-9FBD-65BF7A44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904BA3-7AB3-421F-9078-4458E3B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F55C0A-C4EB-4A53-BE56-034C79E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6F5F53-AA28-41AC-8833-BF3A0A8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1356CA-1808-4C24-9E91-098454FB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A455-083B-418F-A55B-F0339994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6521D5-E2B0-43AF-A74F-FCFDCEFD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7D7A5-4A1B-427F-A7EC-2DF5F5AA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EAEC9-DA92-47FB-8A8E-E291CC82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BBC45-AA65-4B6B-ABB7-CB140C56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F776A-9717-48C0-9B2E-513B3149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C2D12-9C5A-4866-9C6E-FCE1B15A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A2415-4972-458D-8AB5-87BC75D3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F4F20-AB3C-423A-AFF3-3A3C02E9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79538B-52A5-4E29-9876-AF30334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5CC9D-9547-45F5-9EB3-6B0501C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8B7-F5D9-4FD9-B98C-63C04E32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FFD28-95F7-49FE-8879-E3EE43B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F7A8A-9032-4630-B4FA-12748717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11A28-1800-485D-AEEE-1633BCAD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20677-BC0C-4BC7-925F-EAA076E7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B95F4-9137-4ACF-9E80-FD5A49D4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0D19E0-21CC-409E-9F97-8024B27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6066F-C0BC-48AA-B196-052C37DD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C5857-47EE-4E9E-8FFD-D84C818A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76C0F-72CB-42BE-885A-86666F95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0E0F8-E351-47C0-B73E-9B7B94A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E6F8-6CAC-4EF7-A352-A610D692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7B45-C196-4FC0-9DA1-1C3B7B1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43A4A-5417-4B3E-81BA-971F3CD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12743-11EC-4B76-8F30-F327A7C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393E1-E4C4-4691-AB19-B889388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D93F2-6853-401F-B4DC-7F173296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B1D9A-2FCE-4486-B428-A2CCDA67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D359C-B0A7-4F31-87DB-D66616AE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1786C-A1E6-42AD-9CA0-8764328F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E7ECB-B3F3-4B0D-83CB-5C412EC4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5B741-3D9B-466A-B839-2FFB4C5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7D13D-CDCF-4852-A3A6-4FEF0AC6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132D-1B35-435C-A9A5-6CCEA9A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A3A16-A031-40AD-955E-B6A76CBB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AE576A-322A-41C7-85C7-7BABD59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84137-2177-4A7C-A5A6-9D3B591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EB9E2-2E02-4DBD-A16A-B7F3CCE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0D9A8-652E-43F5-A2EB-2B54594B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24879-97F2-4D2B-8361-BABC217C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FDAF3-4513-4253-BF0F-DF4FF0D3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A8C2C-2553-400B-810A-66437716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69398-8CBB-4CE9-A92B-D85D652C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439EEF-8CB0-4388-91B4-25FA8976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59B0-D6CF-4198-AD9F-C0AA525A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A8430-9FC7-45D8-9510-30A94B25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D4BAD-5427-41E8-A290-B493ECED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29401-AEA5-4476-827E-052E111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9DB11-24D2-4F6F-AC4B-6E6EFEDC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FFDB3-8617-4C19-9A36-C21CAFEF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7C871-A00E-4BD5-A757-98FF9D9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AA3A6-B1A6-416C-B063-774988C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B79E9-C8AD-4E3B-83FB-035D8782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B24FF0-750B-4CE0-B53F-5A46DE8A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0B29-E100-4929-BA18-F5A7ABFC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9DF6-A18E-44DA-AE6B-7C7FFB88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425F-4B93-4370-9631-045A4F86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0299-D3DF-4604-AFC9-79ECDBE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E0D8-1A84-4C15-B6AF-D69C324D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3AF5-910E-4490-83A4-6E32AA0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E1CA-3631-4DC8-8023-72908EB6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6597-A3BE-43CC-9E1A-186F12BC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6E45-5378-4701-BEEE-E53D9FC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6A29-A7F7-4702-9C30-312C543A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AF9F-34FC-4F6D-BEE0-EF22FE3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F5D0-9B5F-499A-BF8B-8B31D96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0B75-CAA3-48D7-85BC-4C7706A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F6CE-0056-4939-9550-7E5D961E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4257-8550-424D-99E9-DC8992C9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55A4-06C9-42E4-AE5D-D99B5789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AAF4-C46C-4074-80A1-CDCCB627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BF67-B69F-4E02-97DE-81933A0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0EBF-AE8A-45CF-BDCB-CB23A466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FED1-63AD-4936-B094-12AA803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931C-3938-4714-B594-E9C58A3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6D18-3749-4D3C-9856-5B3163A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BB89-F854-4100-AEC2-F0A2EEE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AEC2-EAA7-428B-A793-C642AF7E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B7C44-A93D-419B-9176-068FB13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8B37-82AA-49B6-B498-88E5A5A7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E8FC-9FD8-4F9F-BD87-8E12D9F9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03EC-CC19-4899-9801-95A9783F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5E34F-66EC-43F6-A165-179C18C3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645F-10E0-4470-81D9-D382BD00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99C8-AA04-4C7F-9342-DB2296F9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A5603-CF5E-476B-B639-8BC854BE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F008-4A58-47F9-B238-66892C4F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ED2C0-28C1-4161-AD81-A6AB6025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2F0D7-A95D-4B3E-87F9-89A67A19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AE41-1A96-4EE3-BAA5-B4BF51A7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791A5-9E58-4C6D-9061-4DEF3BF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F44B-2A39-4D37-852E-ADA7722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9AED-248A-481F-AA8D-A0732EDD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64A3-BB2C-406B-A7CD-8643D0B1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833A-0B51-4D2E-A167-E71B216C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9DA0-DA87-48F4-BFE1-8D7937CC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BF6F-FB2C-4936-8CC0-C619BB8E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B2BC-AAA2-4594-81D5-A85D4727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127F7-DA5F-4C47-9E86-79F026A2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646F3-09A7-4371-B8BE-9D9EAFB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96F21-4CDD-4C2B-B528-C41D6961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19A0C-131D-488F-A5A7-E95D26D7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D80D2-0754-401C-A891-15FC79F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41F9-BB7E-4832-AB23-C00AA72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0F34-0E82-4DF3-8CCA-B3E9F85B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E866-D7D7-4809-9CE5-D5079B4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2BEF8-2843-4C6F-A53A-2D7E241D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5F0F-5FA5-4045-926D-35E32AF0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B7FA-2738-41ED-BD3F-CE076134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44C1A-F0B9-4156-8F0D-61ED8F51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59C84-0B86-40A3-9FE3-1A40D038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5D5AD-5944-47A3-BD4E-14DAE4D1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A27E-41CD-4D68-BA3E-017D8AC1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704F7-10C2-45CC-B50C-842AF87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23D5-2091-41FC-A4B9-7D174A7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70AF3-1695-44AB-B6AE-9DD3453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C0CB-AD1F-455A-819B-7B3659B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5965-DDFA-4AA6-B636-B0A7B18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2F66F-F468-4DDD-8FCE-1E177EE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F5C5-ADD5-4242-B8D9-59FB37EA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906C5-5C5F-462D-93F1-EC8A5980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58637-3077-4AEF-9339-00CDE8B2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34DDE-AB1C-41AF-A31B-0E75F513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A05E-448A-428A-BB02-60438D67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E7B55-0B3B-427E-97FE-EB324433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BB1AA-A1F1-4CA7-80F8-31D820FF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93AC4-97FB-40F6-BF93-D284485E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8016-0E04-4961-83B8-C74223F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5B8C-E3BA-4390-8904-E28D0A0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3111-B2B9-48B6-8994-368B8FB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6825B-B701-4AA6-8A71-027030E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FCA8-7D59-4D93-ABF8-8203FE2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EF2DB-B69F-43E0-BE56-213D13A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17C2-7E6C-4D1A-9F1D-A90B267E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0AE7C-97C6-42AC-8E40-D7FC37CF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1C1EB-BE37-4F7E-859B-F76F63F1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700E9-BEDF-4BF5-9210-CEF3FCE7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A36A1-9F5E-427E-B8CF-16AD050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C43-3B8C-443B-884B-6751435EFD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218-8748-4023-9E10-B1DE5B162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4F89-17AC-490E-9BA8-2FA891E0C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8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BF00-2702-4CD4-8F89-CA0B74A28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3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3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3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3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4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E336-51E6-4E07-8EBA-590A80B326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79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9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4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79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79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9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8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800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801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2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3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804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5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6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807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1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2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813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1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819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82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4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825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6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7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828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9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0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831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2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3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834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6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837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8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9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840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2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84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5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846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84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1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852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3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4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855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6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7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85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9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60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861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62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863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4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65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866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67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68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86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0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72" name="Freeform 222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3" name="Freeform 223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4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875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6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7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878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0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881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3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884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6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887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8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9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890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9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92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893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9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9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9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9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898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899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900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1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2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3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4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5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6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90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90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0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1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2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7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8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9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0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77D-154C-48C0-A21C-80E8BC3B82C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27D-582F-4AA7-A2F1-904901357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BEE-B2E3-417D-A925-62BFB83432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4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97B1-326B-45EE-9CC4-5AACFBC2E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0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8BFA-6DE1-4184-9A7B-E5310E4989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21D3-A586-4DE6-839C-DDF53930F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3694-596A-4F57-8DDE-1E6CF72B7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8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5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E3CC-550D-4D44-B69D-14ED88BAE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7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8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8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89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90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8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99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1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02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4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205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208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0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211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3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214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21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9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220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2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223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5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226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2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4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35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3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3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44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5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6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4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8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9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50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1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5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54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55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6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5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3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64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5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6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67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8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70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5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76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8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79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0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1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82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3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4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85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6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8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73E-E105-4278-BE00-7E1FA15D0FE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1CE3-1E53-4A13-87DC-2841076F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5A7B-5C39-4E5D-A938-A531625AEF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1279-70F2-4A58-B9E3-32D855078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9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807B-2277-4BB8-9216-B0578FF162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DF60-BE98-4EBF-BA30-60136378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log.org/10826106-purple-prom-gowns-evening-dresses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ahoma"/>
              </a:rPr>
              <a:t>Moda de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ada Día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sica y 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1523880" y="6858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lan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3" name="Picture 5" descr="1231669_fpx"/>
          <p:cNvPicPr/>
          <p:nvPr/>
        </p:nvPicPr>
        <p:blipFill>
          <a:blip r:embed="rId1"/>
          <a:stretch/>
        </p:blipFill>
        <p:spPr>
          <a:xfrm>
            <a:off x="152280" y="228600"/>
            <a:ext cx="3284640" cy="411480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6"/>
          <p:cNvSpPr/>
          <p:nvPr/>
        </p:nvSpPr>
        <p:spPr>
          <a:xfrm>
            <a:off x="152280" y="48006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lia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in man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ret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s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lla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zapat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5" name="Picture 7" descr="White-with-white-rose"/>
          <p:cNvPicPr/>
          <p:nvPr/>
        </p:nvPicPr>
        <p:blipFill>
          <a:blip r:embed="rId2"/>
          <a:stretch/>
        </p:blipFill>
        <p:spPr>
          <a:xfrm>
            <a:off x="56386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206" name="Text Box 8"/>
          <p:cNvSpPr/>
          <p:nvPr/>
        </p:nvSpPr>
        <p:spPr>
          <a:xfrm>
            <a:off x="5257800" y="4038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ia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or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 y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 de ba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̃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 bonito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8"/>
          <p:cNvSpPr/>
          <p:nvPr/>
        </p:nvSpPr>
        <p:spPr>
          <a:xfrm>
            <a:off x="3581280" y="15228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lan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9"/>
          <p:cNvSpPr/>
          <p:nvPr/>
        </p:nvSpPr>
        <p:spPr>
          <a:xfrm>
            <a:off x="3352680" y="990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Picture 6" descr="0112997899393_500X500"/>
          <p:cNvPicPr/>
          <p:nvPr/>
        </p:nvPicPr>
        <p:blipFill>
          <a:blip r:embed="rId1"/>
          <a:stretch/>
        </p:blipFill>
        <p:spPr>
          <a:xfrm>
            <a:off x="609480" y="6094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210" name="Text Box 7"/>
          <p:cNvSpPr/>
          <p:nvPr/>
        </p:nvSpPr>
        <p:spPr>
          <a:xfrm>
            <a:off x="2438280" y="380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Text Box 8"/>
          <p:cNvSpPr/>
          <p:nvPr/>
        </p:nvSpPr>
        <p:spPr>
          <a:xfrm>
            <a:off x="380880" y="4038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La familia lleva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pijamas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rojos y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zapatillas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2" name="Picture 21" descr="48039_mini_rodini_red_frill_full"/>
          <p:cNvPicPr/>
          <p:nvPr/>
        </p:nvPicPr>
        <p:blipFill>
          <a:blip r:embed="rId2"/>
          <a:stretch/>
        </p:blipFill>
        <p:spPr>
          <a:xfrm>
            <a:off x="5638680" y="3049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22"/>
          <p:cNvSpPr/>
          <p:nvPr/>
        </p:nvSpPr>
        <p:spPr>
          <a:xfrm>
            <a:off x="5562720" y="40384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Juanita lleva la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camisa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co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́modo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  <a:ea typeface="Tahoma"/>
              </a:rPr>
              <a:t> y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pantalones cortos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  <a:ea typeface="Tahoma"/>
              </a:rPr>
              <a:t> roj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Picture 9" descr="BA3790-BrightOrange_b"/>
          <p:cNvPicPr/>
          <p:nvPr/>
        </p:nvPicPr>
        <p:blipFill>
          <a:blip r:embed="rId1"/>
          <a:stretch/>
        </p:blipFill>
        <p:spPr>
          <a:xfrm>
            <a:off x="533520" y="12193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215" name="Text Box 11"/>
          <p:cNvSpPr/>
          <p:nvPr/>
        </p:nvSpPr>
        <p:spPr>
          <a:xfrm>
            <a:off x="3124080" y="3808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aranj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6" name="Picture 15" descr="orange+dress"/>
          <p:cNvPicPr/>
          <p:nvPr/>
        </p:nvPicPr>
        <p:blipFill>
          <a:blip r:embed="rId2"/>
          <a:stretch/>
        </p:blipFill>
        <p:spPr>
          <a:xfrm>
            <a:off x="5867280" y="114300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17"/>
          <p:cNvSpPr/>
          <p:nvPr/>
        </p:nvSpPr>
        <p:spPr>
          <a:xfrm>
            <a:off x="533520" y="4800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ego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brigo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ranjado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aranjada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5410080" y="47242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alina lleva un vestido anaranjado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inturó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ot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arró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Text Box 8"/>
          <p:cNvSpPr/>
          <p:nvPr/>
        </p:nvSpPr>
        <p:spPr>
          <a:xfrm>
            <a:off x="38098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6" descr="http://beprettycheap.files.wordpress.com/2010/02/2010-02-07-yellowcardigan_skirt_blackankleboots1.jpg"/>
          <p:cNvPicPr/>
          <p:nvPr/>
        </p:nvPicPr>
        <p:blipFill>
          <a:blip r:embed="rId1"/>
          <a:stretch/>
        </p:blipFill>
        <p:spPr>
          <a:xfrm>
            <a:off x="838080" y="1219320"/>
            <a:ext cx="2362320" cy="35575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8" descr="http://4.bp.blogspot.com/-xgEDLGlC8Iw/Tg3186RNjWI/AAAAAAAABdM/DZn1VDe8hAk/s640/yellow_shirt_jeans_belt_scarf_2.jpg"/>
          <p:cNvPicPr/>
          <p:nvPr/>
        </p:nvPicPr>
        <p:blipFill>
          <a:blip r:embed="rId2"/>
          <a:stretch/>
        </p:blipFill>
        <p:spPr>
          <a:xfrm>
            <a:off x="5765760" y="1219320"/>
            <a:ext cx="2384640" cy="3581280"/>
          </a:xfrm>
          <a:prstGeom prst="rect">
            <a:avLst/>
          </a:prstGeom>
          <a:ln w="0">
            <a:noFill/>
          </a:ln>
        </p:spPr>
      </p:pic>
      <p:sp>
        <p:nvSpPr>
          <p:cNvPr id="1222" name="TextBox 5"/>
          <p:cNvSpPr/>
          <p:nvPr/>
        </p:nvSpPr>
        <p:spPr>
          <a:xfrm>
            <a:off x="2743200" y="1522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maril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Text Box 6"/>
          <p:cNvSpPr/>
          <p:nvPr/>
        </p:nvSpPr>
        <p:spPr>
          <a:xfrm>
            <a:off x="457200" y="5105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fi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haquet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rilla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il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al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ris y zapat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7"/>
          <p:cNvSpPr/>
          <p:nvPr/>
        </p:nvSpPr>
        <p:spPr>
          <a:xfrm>
            <a:off x="541008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ufan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ols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una camiseta amarilla, blue jeans y cint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rón marr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Ver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6" name="Picture 5" descr="charlize-theron-green-sweater"/>
          <p:cNvPicPr/>
          <p:nvPr/>
        </p:nvPicPr>
        <p:blipFill>
          <a:blip r:embed="rId1"/>
          <a:stretch/>
        </p:blipFill>
        <p:spPr>
          <a:xfrm>
            <a:off x="609480" y="762120"/>
            <a:ext cx="2932200" cy="403848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7" descr="BD0046"/>
          <p:cNvPicPr/>
          <p:nvPr/>
        </p:nvPicPr>
        <p:blipFill>
          <a:blip r:embed="rId2"/>
          <a:stretch/>
        </p:blipFill>
        <p:spPr>
          <a:xfrm>
            <a:off x="5800680" y="838080"/>
            <a:ext cx="3029040" cy="4038840"/>
          </a:xfrm>
          <a:prstGeom prst="rect">
            <a:avLst/>
          </a:prstGeom>
          <a:ln w="0">
            <a:noFill/>
          </a:ln>
        </p:spPr>
      </p:pic>
      <p:sp>
        <p:nvSpPr>
          <p:cNvPr id="1228" name="Text Box 8"/>
          <p:cNvSpPr/>
          <p:nvPr/>
        </p:nvSpPr>
        <p:spPr>
          <a:xfrm>
            <a:off x="380880" y="5105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Catalina lleva un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</a:rPr>
              <a:t>su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  <a:ea typeface="Tahoma"/>
              </a:rPr>
              <a:t>éter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  <a:ea typeface="Tahoma"/>
              </a:rPr>
              <a:t>de lana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  <a:ea typeface="Tahoma"/>
              </a:rPr>
              <a:t> verde,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  <a:ea typeface="Tahoma"/>
              </a:rPr>
              <a:t>gafas de sol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  <a:ea typeface="Tahoma"/>
              </a:rPr>
              <a:t>, y blue je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5638680" y="5181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Clarisa lleva un collar, un vestido verde, y una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</a:rPr>
              <a:t>pulsera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azu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1" name="Picture 6" descr="http://img.fewdress.com/images/wedding/Long_Light_Sky_Blue_Junior_Bridesmaid_Dress_Vintage_Style450x600.jpg"/>
          <p:cNvPicPr/>
          <p:nvPr/>
        </p:nvPicPr>
        <p:blipFill>
          <a:blip r:embed="rId1"/>
          <a:stretch/>
        </p:blipFill>
        <p:spPr>
          <a:xfrm>
            <a:off x="609480" y="914400"/>
            <a:ext cx="2800440" cy="373392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8" descr="http://www.discountwesternwear.com/images/Products/Cinch%20Shirts/390%20MTW1103234.jpg"/>
          <p:cNvPicPr/>
          <p:nvPr/>
        </p:nvPicPr>
        <p:blipFill>
          <a:blip r:embed="rId2"/>
          <a:stretch/>
        </p:blipFill>
        <p:spPr>
          <a:xfrm>
            <a:off x="5410080" y="1066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33" name="Text Box 7"/>
          <p:cNvSpPr/>
          <p:nvPr/>
        </p:nvSpPr>
        <p:spPr>
          <a:xfrm>
            <a:off x="2514600" y="3657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eli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Text Box 8"/>
          <p:cNvSpPr/>
          <p:nvPr/>
        </p:nvSpPr>
        <p:spPr>
          <a:xfrm>
            <a:off x="38088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Adelina lleva un vestido </a:t>
            </a:r>
            <a:r>
              <a:rPr b="0" lang="en-US" sz="1800" spc="-1" strike="noStrike" u="sng">
                <a:solidFill>
                  <a:srgbClr val="0099ff"/>
                </a:solidFill>
                <a:uFillTx/>
                <a:latin typeface="Tahoma"/>
              </a:rPr>
              <a:t>de seda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 azul y cintur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  <a:ea typeface="Tahoma"/>
              </a:rPr>
              <a:t>ón blan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Text Box 9"/>
          <p:cNvSpPr/>
          <p:nvPr/>
        </p:nvSpPr>
        <p:spPr>
          <a:xfrm>
            <a:off x="5105520" y="4876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Alberto lleva un </a:t>
            </a:r>
            <a:r>
              <a:rPr b="0" lang="en-US" sz="1800" spc="-1" strike="noStrike" u="sng">
                <a:solidFill>
                  <a:srgbClr val="0099ff"/>
                </a:solidFill>
                <a:uFillTx/>
                <a:latin typeface="Tahoma"/>
              </a:rPr>
              <a:t>sombrero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 negro, una camisilla blanca, una camisa azul, un cintur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  <a:ea typeface="Tahoma"/>
              </a:rPr>
              <a:t>ón negro y blue jeans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Text Box 10"/>
          <p:cNvSpPr/>
          <p:nvPr/>
        </p:nvSpPr>
        <p:spPr>
          <a:xfrm>
            <a:off x="3733920" y="1295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a primave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Box 1"/>
          <p:cNvSpPr/>
          <p:nvPr/>
        </p:nvSpPr>
        <p:spPr>
          <a:xfrm>
            <a:off x="2133720" y="45720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ahoma"/>
              </a:rPr>
              <a:t>mor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8" name="Picture 2" descr="Purple prom gowns evening dress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57200"/>
            <a:ext cx="2743200" cy="37260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4" descr="http://www.fabulousafter40.com/wp-content/uploads/2009/09/purple-blouse.jpg"/>
          <p:cNvPicPr/>
          <p:nvPr/>
        </p:nvPicPr>
        <p:blipFill>
          <a:blip r:embed="rId3"/>
          <a:stretch/>
        </p:blipFill>
        <p:spPr>
          <a:xfrm>
            <a:off x="6553080" y="609480"/>
            <a:ext cx="2178000" cy="3353040"/>
          </a:xfrm>
          <a:prstGeom prst="rect">
            <a:avLst/>
          </a:prstGeom>
          <a:ln w="0">
            <a:noFill/>
          </a:ln>
        </p:spPr>
      </p:pic>
      <p:sp>
        <p:nvSpPr>
          <p:cNvPr id="1240" name="Text Box 7"/>
          <p:cNvSpPr/>
          <p:nvPr/>
        </p:nvSpPr>
        <p:spPr>
          <a:xfrm>
            <a:off x="533520" y="43434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Alisa lleva aretes, un vestido morado, y un cintur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  <a:ea typeface="Tahoma"/>
              </a:rPr>
              <a:t>ón blan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6172200" y="42670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Adelina lleva una blusa morada y una falda blan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TextBox 1"/>
          <p:cNvSpPr/>
          <p:nvPr/>
        </p:nvSpPr>
        <p:spPr>
          <a:xfrm>
            <a:off x="2133720" y="22860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ahoma"/>
              </a:rPr>
              <a:t>Neg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3" name="Picture 2" descr="http://hairstylesarea.com/hair-pic/HLIC/b08c1781d7bb488a2cbad99d1f5d90ca.jpg"/>
          <p:cNvPicPr/>
          <p:nvPr/>
        </p:nvPicPr>
        <p:blipFill>
          <a:blip r:embed="rId1"/>
          <a:stretch/>
        </p:blipFill>
        <p:spPr>
          <a:xfrm>
            <a:off x="609480" y="228600"/>
            <a:ext cx="2221200" cy="41148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4" descr="http://cdn02.cdn.socialitelife.com/wp-content/uploads/2011/06/matthew-morrison-uk-glamour-awards-06082011-lead.jpg"/>
          <p:cNvPicPr/>
          <p:nvPr/>
        </p:nvPicPr>
        <p:blipFill>
          <a:blip r:embed="rId2"/>
          <a:stretch/>
        </p:blipFill>
        <p:spPr>
          <a:xfrm>
            <a:off x="5638680" y="457200"/>
            <a:ext cx="3333960" cy="3714840"/>
          </a:xfrm>
          <a:prstGeom prst="rect">
            <a:avLst/>
          </a:prstGeom>
          <a:ln w="0">
            <a:noFill/>
          </a:ln>
        </p:spPr>
      </p:pic>
      <p:sp>
        <p:nvSpPr>
          <p:cNvPr id="1245" name="Text Box 6"/>
          <p:cNvSpPr/>
          <p:nvPr/>
        </p:nvSpPr>
        <p:spPr>
          <a:xfrm>
            <a:off x="380880" y="464832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jandro lleva una chaqueta negra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halec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ris, una camisa blanca, una corbata gris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a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̃uel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blanco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pantalon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negr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Text Box 7"/>
          <p:cNvSpPr/>
          <p:nvPr/>
        </p:nvSpPr>
        <p:spPr>
          <a:xfrm>
            <a:off x="5486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ano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af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ext Box 8"/>
          <p:cNvSpPr/>
          <p:nvPr/>
        </p:nvSpPr>
        <p:spPr>
          <a:xfrm>
            <a:off x="34290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invier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39Z</dcterms:created>
  <dc:creator>wrightjes</dc:creator>
  <dc:description/>
  <dc:language>en-US</dc:language>
  <cp:lastModifiedBy>Jessica and Jeffery</cp:lastModifiedBy>
  <dcterms:modified xsi:type="dcterms:W3CDTF">2011-12-15T19:50:49Z</dcterms:modified>
  <cp:revision>28</cp:revision>
  <dc:subject/>
  <dc:title>Slide 1</dc:title>
</cp:coreProperties>
</file>